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4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8E42-8343-4A11-A09F-F32996C26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FF5E-B16C-4822-830D-2E0712E2A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8183-C56A-4820-921C-BB0DFF832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CA6B-F767-4A6F-9307-0CFC2A39C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B735-7C7F-4780-B7FB-0F29A8D77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DC1A-CCD3-4730-80CA-D9E7BCF7E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7B12-632B-4E6F-AEF8-106FFB2A0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8EF0-482D-4E24-B3E2-5FCA5D3A3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28CA-7E3D-44C2-BCB9-03E2F5863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41B6-B3F6-4C9A-8F61-F4B92D583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754A-FD6D-49D2-BCA3-F32C6AE66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D8BB-F2A2-440C-8585-0B7B7A798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0423-69BE-42F7-BF72-205A3A06F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6424-15D4-4677-9698-5AF38BBF7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132E-D361-4BFB-A9C0-013A3A1F9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8692-5BA3-4259-A469-24038FAA5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316A-2325-4FCA-BD1D-34E80D997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AC1E-D7F1-4750-87C8-846113EBB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7CC5-C424-48B7-87E9-00A33F369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4EDB-0BA7-46B0-BB60-B791609E0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BC47-CEB2-4658-BC31-8001D87D6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CB65-4490-46A6-B4A5-98EC3C26C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F4B4-8D7C-473E-9FE0-CBB031405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44C0-EAC5-46EB-B836-D3644788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EC7C-8FDA-46E7-B52C-271CC3380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AF22-EDB4-4E65-BAB2-243B91568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FADB-4BE5-4967-95CC-0ABC765CC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E356-FB6D-4ABF-BAE9-5822FA28B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553F-A344-4D37-8522-A4E2AC1CF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1B9A-CE0B-45B0-8AC6-40EBC4DC6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87C6-3F74-4BBC-B714-1F5C3AE66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171E-762D-46A9-9695-99C82E8B6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D9ED9-8738-4F6B-BC8C-731E76BEA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82B3-0011-41E4-85F6-AA86E97A8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D76B-AEDF-4CCB-804C-55FA2CAED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00AA4-A4DE-4C02-813A-A4D0AE08E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D6D-D550-4E49-8AFD-CC03A8A6FD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92E-C969-46C2-A215-88AECE1574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8A2-2A28-487E-9437-F1B0AEDD5B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53A-ED18-46AE-8376-8407E601C6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FBE-ED17-4C51-8584-B2C707C0AC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1091-6343-4A16-95E0-589E418C4D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A2B-936D-4F6C-8752-FF84B919D6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F08E-C6D9-47B0-921E-1C8BE9FC7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3B32-FB08-4AF5-A290-D2835596F2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DAC-0D67-4F6C-8076-36557F922A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C6F-FC61-4B7E-8861-EACB10B535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B70-E9E1-4BD2-A5DF-D008EB43B9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664-64D6-4FD9-9D71-72CE94CC36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2AE62-CCC9-4338-A176-8F3BCFD080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A22FF-AA14-4625-A3B2-A56CC079B1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B5ABA-5471-4484-9E79-701F6BF8CF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91FF9-8FC5-4E84-A919-AA15F54AA0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A02C5-08F6-4C36-B08E-377293E280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6FE30-765E-4276-801C-4866046EEC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9F537-2E7E-4471-B21F-D85A7BF1B6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5C269-3683-40BD-94AB-7A149A19EC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4C07F-E1F0-4DA5-BDD8-A6E1C764A4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141AC-2B25-4E11-8342-72CE91059B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548B5-B66A-4C2B-A927-0D3240DFFB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0C0FA-05C7-4576-A5CD-6A9B218066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4E296-6D09-4DB5-A3B7-5C34FFC37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3C38-0AE2-4363-AC4D-DB254406D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D71E-A5EE-4DC6-80CE-801F2CA9C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6274C-EA82-4339-B479-CC8B33D16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F508-73AE-454C-A463-2D248330F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2E605-50E0-4545-A58A-51453937F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652B6-B94A-407E-B873-34BEA1822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1976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7CAA-BE0D-4E9F-84CD-C0DF2509C6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761976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03BD-A4BF-4C23-9F1F-3BBD2F5F4F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91D5-38AE-4759-90B2-64E597AA9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1833480"/>
            <a:ext cx="7010640" cy="23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онтроль качества исследований на чувствительность к антимикробным препарата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30AF-10D7-456B-9A60-71501A34B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66636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колонии для анализ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2422-B278-4C39-B722-B049DF5D6281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EEE2-650C-4849-A997-D44A0F69F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андарт МакФарланда 0,5 и доведенная суспензия исследуемого микроорганиз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D21D-A092-4C5D-A46B-058708939BAC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1220760" y="228600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228600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F45C-B30C-4F18-B0A3-838EAA9AC8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2DAF-27AF-44D3-83E5-6795EACB4F4D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ование диспенсеров для диск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765080"/>
            <a:ext cx="5181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о, быстр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ивает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мин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теряют навыки распределе-ния дисков вручну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distributeur"/>
          <p:cNvPicPr/>
          <p:nvPr/>
        </p:nvPicPr>
        <p:blipFill>
          <a:blip r:embed="rId1"/>
          <a:stretch/>
        </p:blipFill>
        <p:spPr>
          <a:xfrm>
            <a:off x="5105520" y="1905120"/>
            <a:ext cx="388620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C224-DF46-4046-A2CE-D3856E3E91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F8FB-2168-4C32-8F4C-16756FBF7AC7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ые проблемы при анализах на чувствительность с диска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58" name="Picture 12" descr="Too Heavy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44956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609480" y="5435640"/>
            <a:ext cx="2971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5257800" y="5334120"/>
            <a:ext cx="31240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ишком ГУСТОЙ пос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9296-841E-4D1A-9AB4-21C4ED6E01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Disk moved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004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1"/>
          <p:cNvSpPr/>
          <p:nvPr/>
        </p:nvSpPr>
        <p:spPr>
          <a:xfrm>
            <a:off x="380880" y="3855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ые проблемы при анализах на чувствительность с ди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685800" y="5257800"/>
            <a:ext cx="2971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5410080" y="5265720"/>
            <a:ext cx="29718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ны неправильной формы, потому что диски расположены не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8B0B-423F-47D1-901B-9F08E12485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C875-FEC0-4978-BA49-FAFCF93D2013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3374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змерение размера зон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2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8"/>
          <p:cNvSpPr/>
          <p:nvPr/>
        </p:nvSpPr>
        <p:spPr>
          <a:xfrm>
            <a:off x="6127200" y="403848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664640" y="40384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тангенцир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еспечьте хорошее освещение, измеряйте с обратной стороны ча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 разных антибиотиков разный размер 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гут помочь увеличительные при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 миллиметры играют 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5B97-D07F-474F-A642-B8B71502E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698040"/>
            <a:ext cx="84582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 градиента антибиотик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D09E-8854-4F3D-8F6C-E4F6A710BE39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F3A5-EE4F-484B-A5F0-B7830BA99D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3906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зультаты анализов будут неправильными, есл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кроорганизм был неправильно идентифициров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сделана ошибка при записи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и выбраны неправильные антибиот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исследована проба не того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 запрошен неправильн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была обеспечена сохраннос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1A49-9CDD-4148-9715-35D0478B63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50BE-80A3-4056-BAB0-773DA5F99877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я на чувствительность к антибиотика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5" name="Picture 4" descr="k_b"/>
          <p:cNvPicPr/>
          <p:nvPr/>
        </p:nvPicPr>
        <p:blipFill>
          <a:blip r:embed="rId1"/>
          <a:stretch/>
        </p:blipFill>
        <p:spPr>
          <a:xfrm>
            <a:off x="457200" y="1963800"/>
            <a:ext cx="1714680" cy="1668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96380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micmlc2"/>
          <p:cNvPicPr/>
          <p:nvPr/>
        </p:nvPicPr>
        <p:blipFill>
          <a:blip r:embed="rId3"/>
          <a:stretch/>
        </p:blipFill>
        <p:spPr>
          <a:xfrm>
            <a:off x="4114800" y="1963800"/>
            <a:ext cx="2209680" cy="1749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vitek-2"/>
          <p:cNvPicPr/>
          <p:nvPr/>
        </p:nvPicPr>
        <p:blipFill>
          <a:blip r:embed="rId4"/>
          <a:stretch/>
        </p:blipFill>
        <p:spPr>
          <a:xfrm>
            <a:off x="6400800" y="19638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1"/>
          <p:cNvSpPr/>
          <p:nvPr/>
        </p:nvSpPr>
        <p:spPr>
          <a:xfrm>
            <a:off x="676440" y="4114800"/>
            <a:ext cx="793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оставляют информацию для выбора подходящих препаратов для антимикробного л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A77F-6B7D-4C2B-8CC7-61F8C76BA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666360"/>
            <a:ext cx="739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зультаты разных метод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 диффузии в агар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качественные результаты в одной из категорий: чувствительные, промежуточные или устойчив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ы микроразведений и градиентной диффузии в агар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ют количественный результат, минимальную ингибирующую концентр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7F12-10E3-48B6-8B3B-C4CA72387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80880" y="4572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пределения чувстви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685800" y="1143000"/>
            <a:ext cx="7558200" cy="5227560"/>
            <a:chOff x="685800" y="1143000"/>
            <a:chExt cx="7558200" cy="5227560"/>
          </a:xfrm>
        </p:grpSpPr>
        <p:pic>
          <p:nvPicPr>
            <p:cNvPr id="178" name="Picture 4" descr="PBL Susceptibility testing 2008"/>
            <p:cNvPicPr/>
            <p:nvPr/>
          </p:nvPicPr>
          <p:blipFill>
            <a:blip r:embed="rId1"/>
            <a:srcRect l="4364" t="8470" r="5455" b="8470"/>
            <a:stretch/>
          </p:blipFill>
          <p:spPr>
            <a:xfrm>
              <a:off x="685800" y="1143000"/>
              <a:ext cx="7558200" cy="52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1"/>
            <p:cNvSpPr/>
            <p:nvPr/>
          </p:nvSpPr>
          <p:spPr>
            <a:xfrm>
              <a:off x="761760" y="2666880"/>
              <a:ext cx="1600200" cy="70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робирки со средой, бактериями и возрастающей концентрацией антибиоти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"/>
            <p:cNvSpPr/>
            <p:nvPr/>
          </p:nvSpPr>
          <p:spPr>
            <a:xfrm>
              <a:off x="972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7"/>
            <p:cNvSpPr/>
            <p:nvPr/>
          </p:nvSpPr>
          <p:spPr>
            <a:xfrm>
              <a:off x="15372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8"/>
            <p:cNvSpPr/>
            <p:nvPr/>
          </p:nvSpPr>
          <p:spPr>
            <a:xfrm>
              <a:off x="21132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9"/>
            <p:cNvSpPr/>
            <p:nvPr/>
          </p:nvSpPr>
          <p:spPr>
            <a:xfrm>
              <a:off x="262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1"/>
            <p:cNvSpPr/>
            <p:nvPr/>
          </p:nvSpPr>
          <p:spPr>
            <a:xfrm>
              <a:off x="316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2"/>
            <p:cNvSpPr/>
            <p:nvPr/>
          </p:nvSpPr>
          <p:spPr>
            <a:xfrm>
              <a:off x="370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"/>
            <p:cNvSpPr/>
            <p:nvPr/>
          </p:nvSpPr>
          <p:spPr>
            <a:xfrm>
              <a:off x="2216520" y="2895480"/>
              <a:ext cx="10616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М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инималь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И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нгибирующ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К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онцентр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6"/>
            <p:cNvSpPr/>
            <p:nvPr/>
          </p:nvSpPr>
          <p:spPr>
            <a:xfrm>
              <a:off x="3238560" y="2666880"/>
              <a:ext cx="1638360" cy="64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ерийные разведения в бульон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5"/>
            <p:cNvSpPr/>
            <p:nvPr/>
          </p:nvSpPr>
          <p:spPr>
            <a:xfrm>
              <a:off x="3708000" y="5486400"/>
              <a:ext cx="1702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Диффузия в ага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6"/>
            <p:cNvSpPr/>
            <p:nvPr/>
          </p:nvSpPr>
          <p:spPr>
            <a:xfrm>
              <a:off x="858960" y="3869280"/>
              <a:ext cx="83340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растущи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7"/>
            <p:cNvSpPr/>
            <p:nvPr/>
          </p:nvSpPr>
          <p:spPr>
            <a:xfrm>
              <a:off x="838800" y="3557880"/>
              <a:ext cx="13708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Чашка агара 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8"/>
            <p:cNvSpPr/>
            <p:nvPr/>
          </p:nvSpPr>
          <p:spPr>
            <a:xfrm>
              <a:off x="798840" y="3750480"/>
              <a:ext cx="89352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газоно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9"/>
            <p:cNvSpPr/>
            <p:nvPr/>
          </p:nvSpPr>
          <p:spPr>
            <a:xfrm>
              <a:off x="802800" y="4038480"/>
              <a:ext cx="79200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бактер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21"/>
            <p:cNvSpPr/>
            <p:nvPr/>
          </p:nvSpPr>
          <p:spPr>
            <a:xfrm>
              <a:off x="2736000" y="5562720"/>
              <a:ext cx="432000" cy="252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Разме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зон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22"/>
            <p:cNvSpPr/>
            <p:nvPr/>
          </p:nvSpPr>
          <p:spPr>
            <a:xfrm>
              <a:off x="2684160" y="4572000"/>
              <a:ext cx="897120" cy="483480"/>
            </a:xfrm>
            <a:prstGeom prst="rect">
              <a:avLst/>
            </a:prstGeom>
            <a:solidFill>
              <a:srgbClr val="fc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Зона задержки роста бактер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23"/>
            <p:cNvSpPr/>
            <p:nvPr/>
          </p:nvSpPr>
          <p:spPr>
            <a:xfrm>
              <a:off x="1617120" y="5014080"/>
              <a:ext cx="897120" cy="396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Диск, пропитанный антибиотико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24"/>
            <p:cNvSpPr/>
            <p:nvPr/>
          </p:nvSpPr>
          <p:spPr>
            <a:xfrm>
              <a:off x="1723680" y="5410080"/>
              <a:ext cx="432000" cy="252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26"/>
            <p:cNvSpPr/>
            <p:nvPr/>
          </p:nvSpPr>
          <p:spPr>
            <a:xfrm>
              <a:off x="4876920" y="1260720"/>
              <a:ext cx="3200400" cy="20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Анализы на чувствительность определяют, будет ли бактериальный рост подавляться антибиотико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Чувствительность базируется на концентрации антибиотика, при которой нет заметного на глаз роста бактерий (см. МИК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28"/>
            <p:cNvSpPr/>
            <p:nvPr/>
          </p:nvSpPr>
          <p:spPr>
            <a:xfrm>
              <a:off x="4068000" y="4536000"/>
              <a:ext cx="5785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М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TextBox 29" descr=""/>
            <p:cNvPicPr/>
            <p:nvPr/>
          </p:nvPicPr>
          <p:blipFill>
            <a:blip r:embed="rId2"/>
            <a:stretch/>
          </p:blipFill>
          <p:spPr>
            <a:xfrm>
              <a:off x="3584520" y="3474720"/>
              <a:ext cx="26208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30"/>
            <p:cNvSpPr/>
            <p:nvPr/>
          </p:nvSpPr>
          <p:spPr>
            <a:xfrm>
              <a:off x="4248000" y="3600000"/>
              <a:ext cx="1260000" cy="3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Примечание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По размеру зоны можно вычислить МИК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31"/>
            <p:cNvSpPr/>
            <p:nvPr/>
          </p:nvSpPr>
          <p:spPr>
            <a:xfrm>
              <a:off x="4572000" y="3961080"/>
              <a:ext cx="1049040" cy="19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Чем меньше зона, тем выше МИК.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32"/>
            <p:cNvSpPr/>
            <p:nvPr/>
          </p:nvSpPr>
          <p:spPr>
            <a:xfrm>
              <a:off x="5621400" y="3516840"/>
              <a:ext cx="2379960" cy="243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Чувствите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Бактерии считаются чувствительными к антибиотику, если подавление их роста происходит при такой концентрации антибиотика, которую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ЛЕГКО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создать в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СЫВОРОТКЕ КРОВИ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пациента и которая будет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БЕЗОПАСНА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для пациента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 этом случае ожидается положительная реакция на лечени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Устойчив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тивоположность чувствительных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2C16-2593-4EF3-BE2F-07EE730B74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F844-5DFC-4087-A07E-19E8B79B043C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57200" y="3017880"/>
            <a:ext cx="2556000" cy="3306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7" name="Text Box 3"/>
          <p:cNvSpPr/>
          <p:nvPr/>
        </p:nvSpPr>
        <p:spPr>
          <a:xfrm>
            <a:off x="533520" y="1143000"/>
            <a:ext cx="822960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итут клинических и лабораторных стандартов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о микробиологии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о микробной химиотерапии 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6172200" y="3017880"/>
            <a:ext cx="2362320" cy="330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09" name="Object 6"/>
          <p:cNvGraphicFramePr/>
          <p:nvPr/>
        </p:nvGraphicFramePr>
        <p:xfrm>
          <a:off x="3429000" y="3017880"/>
          <a:ext cx="2490840" cy="33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017880"/>
                    <a:ext cx="2490840" cy="3306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1" name="Text Box 8"/>
          <p:cNvSpPr/>
          <p:nvPr/>
        </p:nvSpPr>
        <p:spPr>
          <a:xfrm>
            <a:off x="457200" y="457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D03C-479F-40FA-8CA9-AE6B0D3967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6476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ля примера – выдержка из одного из источников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br>
              <a:rPr sz="28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препаратов для анализ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331B-DF28-484C-A1CE-00C640A2ED3B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414360" y="232560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32560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TextBox 1" descr=""/>
          <p:cNvPicPr/>
          <p:nvPr/>
        </p:nvPicPr>
        <p:blipFill>
          <a:blip r:embed="rId3"/>
          <a:stretch/>
        </p:blipFill>
        <p:spPr>
          <a:xfrm>
            <a:off x="609480" y="2925720"/>
            <a:ext cx="706680" cy="1354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533520" y="2124000"/>
            <a:ext cx="79675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1. Группы одобренных Управлением по продовольствию и медикаментам США антимикробных препаратов, рекомендуемые лабораториям клинической микробиологии для плановых анализов и отчетности по «непривередливым» микроорганизмам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C728-6B07-4C0B-AC78-2DFAACC23A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338A-05E9-41A7-8DDA-5F4553B7F9FA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455760"/>
            <a:ext cx="75438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может быть источником ошибки в анализах на чувствитель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81040"/>
            <a:ext cx="7772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икробиологические сре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тимикробные препара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ультура для посе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нкуб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борудование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B3D6-E409-400B-A94D-4697E22609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850C-F3CA-4B20-9182-887793A84F5A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71629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тод диффузии в агар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52760"/>
            <a:ext cx="861048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га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той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юллер-Хинтон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 7.2–7.4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иму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0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тибиотикам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евна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кФарланд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актери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ульту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рмостат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душная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тмосферный возду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74EF-7B0E-4F18-AE52-F654BEB190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8D90-707A-48BF-9C2A-288669553A50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ные шт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685800" y="380988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кроорганизмы для КК должны быть получены из надежного источни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определенные микроорганизмы в анализах разных комбинаций «бактерии-антибиот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Olga</cp:lastModifiedBy>
  <dcterms:modified xsi:type="dcterms:W3CDTF">2013-05-12T11:00:29Z</dcterms:modified>
  <cp:revision>32</cp:revision>
  <dc:subject/>
  <dc:title>Microbiology QC</dc:title>
</cp:coreProperties>
</file>